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1015-D3C9-4169-8620-DA22ABC68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B2F7-0CAF-4DA8-98BD-F2C561EA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16F5-AA6D-431E-92BA-5123B7859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F179-D4E5-4386-99D3-8BAD2B535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38AB-4BBD-40E3-AE63-A70F1324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7F31-6E17-4A7E-B1B5-B711D4E5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AAE3-BCBC-4B7A-84C1-A9127F3C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BDEF-5898-43F7-BD1A-0A563430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DACE-BC55-4671-844B-D1DC7F6E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8C4B-E57B-4151-BDDF-F1A6C87E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6407-2740-42ED-80B5-B1117AC6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1355-DF2C-4674-880C-EAAC28DE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9F68-336A-4689-9B58-35C78884F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emporal gain stability analysis of     HBA dipoles and t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rom 19-21  &amp; 25-27 April 2008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ubband  SB5  at  ~146 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 de Bruy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M      14 May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4343400" cy="4337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419720" y="1987560"/>
            <a:ext cx="4343400" cy="4336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5800" y="7621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po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tios  L6100:  19-21apr08 (start = UT1313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s                                  smoothed (5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uses the ~ 5% variations seen in the total power of the HBA dipoles and 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ime-variable absorption by the D-layer in the ionosphere  !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 suggestion made by Alan Rogers, and supported by members of the ionospheric community,  at the URSI GA in Chicago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 de Bruy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SM      27 August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ructure of the ion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1270080"/>
            <a:ext cx="4876920" cy="4749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343400" y="1905120"/>
            <a:ext cx="1600200" cy="1447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53080" y="2270160"/>
            <a:ext cx="236232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2-layer affects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-layer may affect amplitu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4114800"/>
            <a:ext cx="609480" cy="53352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028840" y="4343400"/>
            <a:ext cx="1523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172200" y="266688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density profiles in the atmosphere/ion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705360" cy="4876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781680" y="64152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rom Davies, 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48520" y="4343400"/>
            <a:ext cx="761760" cy="533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2819520"/>
            <a:ext cx="762120" cy="533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sorption of radio emission in the D-layer occurs through the interaction of em-waves with electrons that collide with molec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-layer has a low electron density (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x F2 layer) but much higher molecular density (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x F2 layer) =&gt; absorption in D-layer much higher !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-layer disappears at night (plasma recombines) =&gt; effects only expected during day ! (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bsorption scales as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2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ble absorption of Galactic emission  is routinely measured by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riometer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25-35 MHz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network of riometers and other ionospheric sounding equipment is located in the Nordic countries  (e.g. Sodankylä  Geophysical Observatory,  www.sgo.fi)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5800" y="1103400"/>
            <a:ext cx="6867360" cy="51451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09480" y="3808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ometer data from the Nordic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76720" y="2427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6553080" cy="4542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38080" y="3808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ed absorption (in dB) around 30 MH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onsequences if TP variations at 146 MHz are indeed due to variable D-layer absor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r (absolute) flux calibration, certainly in the LBA band, should be done solely through night-time observ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 validation in LBA should be done using only nighttime dat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spatial (horizontal) structure will create real problems. No structure is present on  ~400m (CS-1) scales where all antennas showed same effect. But sec(z) effect still needs to be taken into acco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te day time calibration at frequencies in the LBA band may be even more complicated than exp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w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e the HBA frequency dependence in the observations from late April (120-180 MHz =&gt; factor 2 differen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a few 48h sessions with CS-1 dipoles and the station in the LBA 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y the spatial structure through airglow measurements that probe the upper atmosphere at 80-100 km (OI 5577, 6300 Angstrom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re a riometer  (Relative Ionospheric Opacity METER) for LOFAR 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ing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-21 April 2008    L6100  48h   Cy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-27 April 2008    L6308  48h   Cy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HBA observations: 12 subbands,  110-182 MHz,  10s time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4 tiles:    # 1, 2, 3 &amp; 4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20 dipoles:  8 in CS010,  4 each in CS001, CS008 &amp; CS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iles were (supposed to be?) tracking.   Dry wea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for data in subband SB5 (&lt;ch120-180&gt;) located  around 146 MHz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s were made using raw data produced with Casey Law’s data2ascii.py script. Further processing done using supermon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le3                2x24h           17-19apr08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B5     &lt;ch121-129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709308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8h TP-curves for 4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510552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LE 3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27360" y="912960"/>
            <a:ext cx="548460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pole CS010     ANT1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28800" y="912960"/>
            <a:ext cx="5494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i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s  L6308:  25-27apr08 (start =UT1445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s                                  smoothed (5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4343400" cy="4335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495680" y="2057400"/>
            <a:ext cx="434340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po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tios  L6308:  25-27apr08 (start UT1445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s                                  smoothed (5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1987560"/>
            <a:ext cx="4343400" cy="4336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0" y="2063880"/>
            <a:ext cx="4267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tios  L6100:  19-21apr08 (start = UT1313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s                                  smoothed (5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8600" y="1987560"/>
            <a:ext cx="4343400" cy="4336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419720" y="1981080"/>
            <a:ext cx="4343400" cy="43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18:22:50Z</dcterms:created>
  <dc:creator>Ger de Bruyn</dc:creator>
  <dc:description/>
  <dc:language>en-US</dc:language>
  <cp:lastModifiedBy>Ger de Bruyn</cp:lastModifiedBy>
  <dcterms:modified xsi:type="dcterms:W3CDTF">2008-08-27T11:45:13Z</dcterms:modified>
  <cp:revision>18</cp:revision>
  <dc:subject/>
  <dc:title>PowerPoint Presentation</dc:title>
</cp:coreProperties>
</file>